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84655-6E59-4C43-9721-D70790EFF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E1121-CD78-4CB7-9B21-E25A7934B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06239-47CC-45B5-8FAB-6950330CC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83EB9-2945-4765-AE72-D5CCD7E12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C2CD7-5793-4706-915F-12581394F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CE029-9014-4303-9CDB-B3644A970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73C3F-9792-46A8-8ACD-CE703EF2F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E431F-736D-488B-A7C7-77EFB48CA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C0654-3583-4650-A3C0-1A78ED9C6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612F0-FEB0-4BD4-A5B2-96D72F446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52771-04C3-4B6E-B986-C02C28DCD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47770-3297-4D5B-BA62-AD9B33996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B299A-C358-4529-97B7-C13514B09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F75E4-25F2-4F97-86D3-FB7CE601A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8A3B7-3B62-48B4-B434-FE8793DF0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1BF6C-195D-4E03-9C19-DB78B80FC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8BCFD-AB3E-4D3F-9677-FB203FE11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49E6F-9152-4CED-A450-A1E788857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F91EA-1ECD-408D-85D3-6BB0DA663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B091C-BE16-4A10-A6E5-A3E08F0EF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6761F-1925-44F0-9474-707ABD13B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B651D-DC79-472D-8A0C-AD52A8BD7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D1092-6413-4ACE-B30A-D919B0B4A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D9F38-1BC5-4351-8B6C-19FDBB3D8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515EC-F299-4F9F-95A3-BD7247B16B6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48A2F-9CE0-4563-BC1F-6A8DE46AF04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“</a:t>
            </a: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How Long, O Lord?”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arter 13, Lesson 1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John 2:18 – 3:2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ges 100-10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Tahoma"/>
              </a:rPr>
              <a:t>Our Boldness Toward God</a:t>
            </a:r>
            <a:br>
              <a:rPr sz="3400"/>
            </a:br>
            <a:r>
              <a:rPr b="0" lang="en-US" sz="2500" spc="-1" strike="noStrike">
                <a:solidFill>
                  <a:srgbClr val="ffffcc"/>
                </a:solidFill>
                <a:latin typeface="Tahoma"/>
              </a:rPr>
              <a:t>1 John 3:19-24</a:t>
            </a:r>
            <a:endParaRPr b="0" lang="en-US" sz="25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-57636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 not let our hearts condemn us as unworth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6360" indent="-57636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d is greater than our hearts and can see all things about our liv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6360" indent="-57636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can know we are of the truth and can persuade our hearts becaus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6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6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ebf25a"/>
                </a:solidFill>
                <a:latin typeface="Tahoma"/>
              </a:rPr>
              <a:t>1. We keep His commandments and do those things that are pleasing to Hi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9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9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4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Tahoma"/>
              </a:rPr>
              <a:t>Our Boldness Toward God</a:t>
            </a:r>
            <a:br>
              <a:rPr sz="3400"/>
            </a:br>
            <a:r>
              <a:rPr b="0" lang="en-US" sz="2500" spc="-1" strike="noStrike">
                <a:solidFill>
                  <a:srgbClr val="ffffcc"/>
                </a:solidFill>
                <a:latin typeface="Tahoma"/>
              </a:rPr>
              <a:t>1 John 3:19-24</a:t>
            </a:r>
            <a:endParaRPr b="0" lang="en-US" sz="25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1920" y="1904760"/>
            <a:ext cx="89917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f25a"/>
                </a:solidFill>
                <a:latin typeface="Tahoma"/>
              </a:rPr>
              <a:t>2.</a:t>
            </a:r>
            <a:r>
              <a:rPr b="0" lang="en-US" sz="2400" spc="-1" strike="noStrike">
                <a:solidFill>
                  <a:srgbClr val="ebf25a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ebf25a"/>
                </a:solidFill>
                <a:latin typeface="Tahoma"/>
              </a:rPr>
              <a:t>We obey His command to trust in the name of Jes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f25a"/>
                </a:solidFill>
                <a:latin typeface="Tahoma"/>
              </a:rPr>
              <a:t>3.   We love one anoth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6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Tahoma"/>
              </a:rPr>
              <a:t>The Antichrist Is Coming</a:t>
            </a:r>
            <a:br>
              <a:rPr sz="3400"/>
            </a:br>
            <a:r>
              <a:rPr b="0" lang="en-US" sz="2900" spc="-1" strike="noStrike">
                <a:solidFill>
                  <a:srgbClr val="ffffcc"/>
                </a:solidFill>
                <a:latin typeface="Tahoma"/>
              </a:rPr>
              <a:t>1 John 2:18-23</a:t>
            </a:r>
            <a:endParaRPr b="0" lang="en-US" sz="29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finition of Antichrist- Vines Dictiona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 mean either against Christ, or instead of Christ, or perhaps combining the two, one who, assuming the guise of Christ, opposes Christ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 antichrist is one who denies the Father and the Son and is called a liar (1 John 2:22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77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77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77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77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" dur="77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Tahoma"/>
              </a:rPr>
              <a:t>The Antichrist Is Coming</a:t>
            </a:r>
            <a:br>
              <a:rPr sz="3400"/>
            </a:br>
            <a:r>
              <a:rPr b="0" lang="en-US" sz="2900" spc="-1" strike="noStrike">
                <a:solidFill>
                  <a:srgbClr val="ffffcc"/>
                </a:solidFill>
                <a:latin typeface="Tahoma"/>
              </a:rPr>
              <a:t>1 John 2:18-23</a:t>
            </a:r>
            <a:endParaRPr b="0" lang="en-US" sz="29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is the antichrist coming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the last hour which is the Christian dispens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y antichrist have co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pirit of the antichrist is now already in the world (1 John 4:3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went out from us, but were not of 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3400" spc="-1" strike="noStrike">
                <a:solidFill>
                  <a:srgbClr val="ffffcc"/>
                </a:solidFill>
                <a:latin typeface="Tahoma"/>
              </a:rPr>
              <a:t>Let Truth Abide In You</a:t>
            </a:r>
            <a:br>
              <a:rPr sz="3400"/>
            </a:b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1 John 2:24-28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8839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ohn wrote to Christians wh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-380880">
              <a:spcBef>
                <a:spcPts val="601"/>
              </a:spcBef>
              <a:buClr>
                <a:srgbClr val="ffffff"/>
              </a:buClr>
              <a:buSzPct val="80000"/>
              <a:buFont typeface="Tahom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Had been anointed from the Holy One (enlightene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-380880">
              <a:spcBef>
                <a:spcPts val="601"/>
              </a:spcBef>
              <a:buClr>
                <a:srgbClr val="ffffff"/>
              </a:buClr>
              <a:buSzPct val="80000"/>
              <a:buFont typeface="Tahom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new the truth which they heard from the beginn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-380880">
              <a:spcBef>
                <a:spcPts val="601"/>
              </a:spcBef>
              <a:buClr>
                <a:srgbClr val="ffffff"/>
              </a:buClr>
              <a:buSzPct val="80000"/>
              <a:buFont typeface="Tahom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ere admonished to abide in the trut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-380880">
              <a:spcBef>
                <a:spcPts val="601"/>
              </a:spcBef>
              <a:buClr>
                <a:srgbClr val="ffffff"/>
              </a:buClr>
              <a:buSzPct val="80000"/>
              <a:buFont typeface="Tahom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ould also abide in the Son and the Fath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-380880">
              <a:spcBef>
                <a:spcPts val="601"/>
              </a:spcBef>
              <a:buClr>
                <a:srgbClr val="ffffff"/>
              </a:buClr>
              <a:buSzPct val="80000"/>
              <a:buFont typeface="Tahom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Had been promised eternal life by Go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ver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Tahoma"/>
              </a:rPr>
              <a:t>Children Of God</a:t>
            </a:r>
            <a:br>
              <a:rPr sz="3400"/>
            </a:br>
            <a:r>
              <a:rPr b="0" lang="en-US" sz="2500" spc="-1" strike="noStrike">
                <a:solidFill>
                  <a:srgbClr val="ffffcc"/>
                </a:solidFill>
                <a:latin typeface="Tahoma"/>
              </a:rPr>
              <a:t>1 John 2:29-3:3</a:t>
            </a:r>
            <a:endParaRPr b="0" lang="en-US" sz="25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d is righteous and everyone who practices righteousness is born of Hi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d’s love enables us to become children of G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do not yet see what we shall b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Jesus comes, we will be like Hi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eryone who has this hope purifies himself even as Christ is pur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Tahoma"/>
              </a:rPr>
              <a:t>Sin And The Child of God</a:t>
            </a:r>
            <a:br>
              <a:rPr sz="3800"/>
            </a:br>
            <a:r>
              <a:rPr b="0" lang="en-US" sz="2500" spc="-1" strike="noStrike">
                <a:solidFill>
                  <a:srgbClr val="ffffcc"/>
                </a:solidFill>
                <a:latin typeface="Tahoma"/>
              </a:rPr>
              <a:t>1 John 3:4-9</a:t>
            </a:r>
            <a:endParaRPr b="0" lang="en-US" sz="25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finition of sin: sin is lawlessness (going beyond the law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oever commits sin also commits lawlessn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sus died for our sins and in Him there is no s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77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9" dur="77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1" dur="77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3" dur="77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77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0" dur="77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2" dur="77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4" dur="77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77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1" dur="77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3" dur="77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5" dur="77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Tahoma"/>
              </a:rPr>
              <a:t>Sin And The Child of God</a:t>
            </a:r>
            <a:br>
              <a:rPr sz="3800"/>
            </a:br>
            <a:r>
              <a:rPr b="0" lang="en-US" sz="2500" spc="-1" strike="noStrike">
                <a:solidFill>
                  <a:srgbClr val="ffffcc"/>
                </a:solidFill>
                <a:latin typeface="Tahoma"/>
              </a:rPr>
              <a:t>1 John 3:4-9</a:t>
            </a:r>
            <a:endParaRPr b="0" lang="en-US" sz="25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 not be deceived: righteous living requires righteous dee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one that sins shows that his father is the devi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e cannot say, “God is my Father,” and continue sinn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3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8" dur="2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3" dur="2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Tahoma"/>
              </a:rPr>
              <a:t>Amplified Bible Version</a:t>
            </a:r>
            <a:br>
              <a:rPr sz="2900"/>
            </a:br>
            <a:r>
              <a:rPr b="0" lang="en-US" sz="2900" spc="-1" strike="noStrike">
                <a:solidFill>
                  <a:srgbClr val="ffffcc"/>
                </a:solidFill>
                <a:latin typeface="Tahoma"/>
              </a:rPr>
              <a:t>1 John 3:6, 9</a:t>
            </a:r>
            <a:endParaRPr b="0" lang="en-US" sz="29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6 No one who abides in Him [who lives and remains [</a:t>
            </a:r>
            <a:r>
              <a:rPr b="0" lang="en-US" sz="2400" spc="-1" strike="noStrike" u="sng">
                <a:solidFill>
                  <a:srgbClr val="ebf25a"/>
                </a:solidFill>
                <a:uFillTx/>
                <a:latin typeface="Tahoma"/>
                <a:hlinkClick r:id="rId1" action="ppaction://hlinksldjump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]in communion with and in obedience to Him--deliberately, knowingly, and [</a:t>
            </a:r>
            <a:r>
              <a:rPr b="0" lang="en-US" sz="2400" spc="-1" strike="noStrike" u="sng">
                <a:solidFill>
                  <a:srgbClr val="ebf25a"/>
                </a:solidFill>
                <a:uFillTx/>
                <a:latin typeface="Tahoma"/>
                <a:hlinkClick r:id="rId2" action="ppaction://hlinksldjump"/>
              </a:rPr>
              <a:t>f</a:t>
            </a:r>
            <a:r>
              <a:rPr b="0" lang="en-US" sz="2400" spc="-1" strike="noStrike">
                <a:solidFill>
                  <a:srgbClr val="ebf25a"/>
                </a:solidFill>
                <a:latin typeface="Tahoma"/>
              </a:rPr>
              <a:t>]habitually]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commits (</a:t>
            </a:r>
            <a:r>
              <a:rPr b="0" lang="en-US" sz="2400" spc="-1" strike="noStrike">
                <a:solidFill>
                  <a:srgbClr val="ebf25a"/>
                </a:solidFill>
                <a:latin typeface="Tahoma"/>
              </a:rPr>
              <a:t>practice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) sin. No one who [habitually] sins has either seen or known Him [recognized, perceived, or understood Him, or has had an experiential acquaintance with Him]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9 No one born (begotten) of God [deliberately, knowingly, and [</a:t>
            </a:r>
            <a:r>
              <a:rPr b="0" lang="en-US" sz="2400" spc="-1" strike="noStrike" u="sng">
                <a:solidFill>
                  <a:srgbClr val="ebf25a"/>
                </a:solidFill>
                <a:uFillTx/>
                <a:latin typeface="Tahoma"/>
                <a:hlinkClick r:id="rId3" action="ppaction://hlinksldjump"/>
              </a:rPr>
              <a:t>h</a:t>
            </a:r>
            <a:r>
              <a:rPr b="0" lang="en-US" sz="2400" spc="-1" strike="noStrike">
                <a:solidFill>
                  <a:srgbClr val="ebf25a"/>
                </a:solidFill>
                <a:latin typeface="Tahoma"/>
              </a:rPr>
              <a:t>]habitually] practices si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for God's nature abides in him [His principle of life, the divine sperm, remains permanently within him]; and he cannot practice sinning because he is born (begotten) of Go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3124080" y="259092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72200" y="259092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24080" y="472428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952880" y="4724280"/>
            <a:ext cx="1676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0" dur="2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5" dur="2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Tahoma"/>
              </a:rPr>
              <a:t>Love One Another</a:t>
            </a:r>
            <a:br>
              <a:rPr sz="3400"/>
            </a:br>
            <a:r>
              <a:rPr b="0" lang="en-US" sz="2500" spc="-1" strike="noStrike">
                <a:solidFill>
                  <a:srgbClr val="ffffcc"/>
                </a:solidFill>
                <a:latin typeface="Tahoma"/>
              </a:rPr>
              <a:t>1 John 3:11-18</a:t>
            </a:r>
            <a:endParaRPr b="0" lang="en-US" sz="25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e who hates his brother is a murderer like Cain (3:11-15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sus showed us what love is by laying down His life for us (3:16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must show our love – not just talk about it (3:16-18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4T21:16:58Z</dcterms:created>
  <dc:creator>robert marshall</dc:creator>
  <dc:description/>
  <dc:language>en-US</dc:language>
  <cp:lastModifiedBy>Frank D Vines</cp:lastModifiedBy>
  <dcterms:modified xsi:type="dcterms:W3CDTF">2007-06-03T21:21:01Z</dcterms:modified>
  <cp:revision>5</cp:revision>
  <dc:subject/>
  <dc:title>“How Long, O Lord?”</dc:title>
</cp:coreProperties>
</file>